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3240" y="10666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800" y="1600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800" y="19051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800" y="30481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800" y="2743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72560" y="2743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77520" y="198108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25040" y="289548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360" y="28954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18800" y="44197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81760" y="4876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2720" y="41911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124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592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0920" y="41911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383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4520" y="731520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3240" y="10666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0720" y="1600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0720" y="19051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00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0720" y="2743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71840" y="27432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77160" y="1981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4680" y="28954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49080" y="289548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3240" y="10666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81800" y="1600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81080" y="19051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81800" y="30481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800" y="2743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72560" y="2743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77160" y="19810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25040" y="289548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4280" y="289548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Jul (5 Ju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74600" y="441972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824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2720" y="41911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023.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84592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0920" y="41911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219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63240" y="10666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80720" y="1600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80720" y="19051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80720" y="30481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0720" y="2743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71480" y="2743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76800" y="19810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24320" y="28954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848360" y="28954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96560" y="106668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0 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0360" y="228600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0 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81080" y="16002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19051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25720" y="30481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81800" y="274320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71840" y="27432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77160" y="19810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24680" y="28954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32600" y="28954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74600" y="441972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824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66040" y="419112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8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845560" y="4191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0920" y="41911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13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86880" y="1523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40160" y="1523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3240" y="10666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80720" y="1600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80720" y="19051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78560" y="2743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 Jun / 15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1480" y="2743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876800" y="19810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124320" y="28954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48360" y="28954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79640" y="3124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9160" y="106668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5 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0720" y="1600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190512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78560" y="2743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Jun / 21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71480" y="2743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877160" y="1981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124320" y="28954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49080" y="289548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67800" y="1523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179760" y="15238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78560" y="312408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Jun / 25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56320" y="62485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919.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056320" y="66294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919.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28400" y="624852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565120" y="66294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,801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000280" y="62485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8.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80760" y="67057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8.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084560"/>
            <a:ext cx="477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09160" y="106668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0 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16002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980000" y="22860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/20 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81080" y="190512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0720" y="2743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371840" y="27432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877160" y="1981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24680" y="28954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849080" y="289548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267800" y="1523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179760" y="15238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81080" y="3124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56320" y="62485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,33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6320" y="66294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,33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928040" y="62485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565120" y="66294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,205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000280" y="62485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4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0760" y="67057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4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05120" y="22096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905120" y="1152360"/>
            <a:ext cx="119988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AR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5324400" y="28954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48400" y="30481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66960" y="1981080"/>
            <a:ext cx="280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77120" y="1986120"/>
            <a:ext cx="6120" cy="9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468240" y="320760"/>
            <a:ext cx="2437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33400" y="1120680"/>
            <a:ext cx="102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67400" y="878040"/>
            <a:ext cx="1116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856680" y="878040"/>
            <a:ext cx="6685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625920" y="1093680"/>
            <a:ext cx="120024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4720" y="1595520"/>
            <a:ext cx="150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66480" y="1824120"/>
            <a:ext cx="161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00080" y="2357280"/>
            <a:ext cx="83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14480" y="1546200"/>
            <a:ext cx="180972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53360" y="159552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22720" y="1546200"/>
            <a:ext cx="6685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96720" y="159552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818320" y="1546200"/>
            <a:ext cx="1199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06400" y="1595520"/>
            <a:ext cx="276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-142560" y="2874960"/>
            <a:ext cx="2119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14480" y="2749680"/>
            <a:ext cx="157968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26920" y="2797200"/>
            <a:ext cx="66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41800" y="2749680"/>
            <a:ext cx="120024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896080" y="2908440"/>
            <a:ext cx="1198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13240" y="320688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638680" y="2890800"/>
            <a:ext cx="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47120" y="2908440"/>
            <a:ext cx="12016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72240" y="1994040"/>
            <a:ext cx="119880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839800" y="2832120"/>
            <a:ext cx="1058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334640" y="2568600"/>
            <a:ext cx="1089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60120" y="294948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9160" y="352908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640320" y="3597120"/>
            <a:ext cx="2098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79000" y="388476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8120" y="4170240"/>
            <a:ext cx="822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932040" y="4119480"/>
            <a:ext cx="11253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28680" y="4119480"/>
            <a:ext cx="89388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66760" y="4800600"/>
            <a:ext cx="1016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873800" y="493236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155680" y="4871880"/>
            <a:ext cx="860400" cy="2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991240" y="4932360"/>
            <a:ext cx="111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8280" y="5361120"/>
            <a:ext cx="37321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62960" y="3884760"/>
            <a:ext cx="196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20000" y="3884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335720" y="3884760"/>
            <a:ext cx="833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04920" y="3884760"/>
            <a:ext cx="136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00480" y="42084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200480" y="4611600"/>
            <a:ext cx="158112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200480" y="5010120"/>
            <a:ext cx="158112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200480" y="5415120"/>
            <a:ext cx="1581120" cy="29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46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46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846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46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57880" y="4208400"/>
            <a:ext cx="85104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57880" y="461160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257880" y="5010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257880" y="5415120"/>
            <a:ext cx="8510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4760" y="424512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124760" y="466740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24760" y="506736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124760" y="5465880"/>
            <a:ext cx="33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94480" y="4208400"/>
            <a:ext cx="878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94480" y="4611600"/>
            <a:ext cx="87804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94480" y="5010120"/>
            <a:ext cx="878040" cy="3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494480" y="5415120"/>
            <a:ext cx="878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312400" y="4638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312400" y="504360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312400" y="54230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577360" y="421308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577360" y="4611600"/>
            <a:ext cx="103968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577360" y="5010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577360" y="5415120"/>
            <a:ext cx="103968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5856120"/>
            <a:ext cx="982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72600" y="5867280"/>
            <a:ext cx="1433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73160" y="630252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5580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43520" y="6302520"/>
            <a:ext cx="1421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2124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812920" y="6302520"/>
            <a:ext cx="19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723080" y="6276960"/>
            <a:ext cx="1201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3160" y="6683400"/>
            <a:ext cx="1738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5580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44240" y="6683400"/>
            <a:ext cx="187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6676920"/>
            <a:ext cx="12016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95600" y="6683400"/>
            <a:ext cx="2248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400960" y="6676920"/>
            <a:ext cx="120024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183880" y="177840"/>
            <a:ext cx="1382040" cy="1287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991720" y="72396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763120" y="647640"/>
            <a:ext cx="363240" cy="571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564240" y="2209680"/>
            <a:ext cx="97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029560" y="2112840"/>
            <a:ext cx="1485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057560" y="3162240"/>
            <a:ext cx="170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86480" y="22096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307720" y="4251240"/>
            <a:ext cx="32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796560" y="106668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0 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982160" y="22860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980720" y="1600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190512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025720" y="304812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877160" y="1981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24680" y="28954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932960" y="289548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18800" y="41911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0" y="41911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1160" y="419112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48400" y="7315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4160" y="7315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055080" y="73152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286880" y="1523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40160" y="15238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9T11:03:08Z</dcterms:created>
  <dc:creator>Soldier Support Institute</dc:creator>
  <dc:description/>
  <dc:language>en-US</dc:language>
  <cp:lastModifiedBy>Administrator</cp:lastModifiedBy>
  <cp:lastPrinted>2000-07-14T19:37:08Z</cp:lastPrinted>
  <dcterms:modified xsi:type="dcterms:W3CDTF">2004-09-16T14:19:11Z</dcterms:modified>
  <cp:revision>9</cp:revision>
  <dc:subject/>
  <dc:title>cover sheet</dc:title>
</cp:coreProperties>
</file>